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03640-B5C9-4B61-AACB-BF7D60C1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F8C3-3A77-4CF7-8DF6-EAB9395A3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3EB47-31B9-48EB-895D-488704120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71305-C84A-4818-9AD7-93FB926B86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97326-65B5-45B3-8F10-77FC8BCC94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6E4B8-1A67-4F9B-8B9E-2872536A0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606C4-2BC4-4070-A7FB-2DFB06262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BC96F-2C04-43DE-84E4-B03C5614D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11E7E-00CB-4138-99D5-ADF31CAC6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8D42C-E5A9-4BD7-A84A-86453AF48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67C50-A33E-482F-B22F-2D0D70116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4E53F-D22A-4AB5-A766-72E094FDB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6CCD0-70A2-4768-BD44-09400F7F6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6332E-F197-4EE4-B8A1-DF25B667B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E4232-F168-4DDD-804E-7AE149C09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117A-7E07-4E2E-9D06-16EADB3EC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5B89F-00E6-42D2-A0FC-18747B797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823C2-4B9F-477F-8F7A-76451515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74D78-14FC-4E03-BFE8-D9DA40F8C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CC30-F55B-42DF-A28E-E4C686A91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A8F11-5D44-402E-AFBE-4C184A880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0ED8-B6F8-4EFC-B36C-9ACD74B3F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4F34B-2E79-4CB0-8CC5-4C4966DB6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D564-D237-44CC-9FAE-9425A12C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DAA1C-7BDD-4C9A-A76D-F06E11D0815B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" name="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" name="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3" name="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" name="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5" name="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" name="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1" name="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50" name="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121C-C78F-46C4-AF1A-1DFE35A8008C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93" name="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6" name="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7" name="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103" name="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6" name="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7" name="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2" name="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447920" y="22093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b800"/>
            </a:outerShdw>
          </a:effectLst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Using Children’s Literature to Teach Writing/Word Study</a:t>
            </a:r>
            <a:endParaRPr b="0" lang="en-US" sz="4400" spc="-1" strike="noStrike">
              <a:solidFill>
                <a:srgbClr val="ff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-533880" y="585432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elli D. Harrell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ring 2006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omic Sans MS"/>
              </a:rPr>
              <a:t>Don’t Forget Poetry!!!!</a:t>
            </a:r>
            <a:endParaRPr b="0" lang="en-US" sz="5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hen to read children’s literatur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Read Aloud – Connect same books to reading comprehension strateg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hared Reading – everyone has a cop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riting Mini-Lesson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Word Study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Basic Lesson Pla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Before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Introduce Book/Identify purpose for rea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uring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Make explicit connections between reading and writing process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oint out examples of language, transitions, etc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fter Rea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Discuss author’s strategi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hoose one focus for a mini lesson (ie-precise language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apply strategy to their own reading and writing/Conferenc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udents share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ry It!!!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oose a book on your tabl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the book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Decide what feature/principle(s) could be taught from the book.  Where does it fit on the continuum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How could the book be used to generate examples of the principle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are other books you might use to teach word study/writing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7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17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b8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Final Though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onsider studying 1-2 authors at each grade level in depth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K-2 – Dr. Seuss/Eric Carle/Jan Brett/Frank As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3-5 – Cynthia Rylant/Mem Fox/Avi/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Gary Paulsen/Eve Bunt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Have Fun!!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Comic Sans MS"/>
              </a:rPr>
              <a:t>About the Authors:  Writing Workshop with Our Youngest Writers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by Katie Wood Ray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arious booklists to help with identifying featur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Lesson Idea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K-2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Read No, David, or another story w/ little detail.  Add details to the B/M/E to rewrite the story for older kids to read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8960" y="762120"/>
            <a:ext cx="687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The best way to learn to write is to read a lot.  Unless you are a reader, you cannot become a writer.  The more you read, the better your writing will be.”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Avi 1996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Why use children’s literature to teach writing/word study?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76201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ease awareness to sounds, letters, and words.  Develop word consciousnes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del good writing trait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ocu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pport and Elabor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Organizatio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tyle (new)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Conventio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Help students choose topics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reate awareness to audience and purpos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otivate students to read and write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Sounds of Language/Word Study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Parts/Chunk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End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Alliterati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nomatopoeia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Figurative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Vocabulary/Precise Languag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Mean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Parts of Speech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Jar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”…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hoose words that tickle the ears, warm the heart, make them wonder, make them smart.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Janet Allen (1999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Word Study Less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Meaning/Vocabulary Less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4 (p.301) – Verb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6/17 – Adjectiv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8 – Noun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20 – Extending Word Knowledg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Word Solving Action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#13 (p.481) Using Context to Figure Out New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Focus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Narrow Focus/Small Moment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Owl Moo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Night Whisper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hortcut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hair For My Mothe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Attention to Audience/Purpo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Voic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Elaboration/Style Element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levant Detail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ecise Language/Sensory Word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pecific Noun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Verb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djectives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rect/Indirect Feeling Referenc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imiles/Metaphors/Idiom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Repetitio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ntence Variety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Organizatio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Clear Beginning, Middle, E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ngaging Beginning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houghtful En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0" algn="ctr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00"/>
                </a:solidFill>
                <a:uFillTx/>
                <a:latin typeface="Comic Sans MS"/>
              </a:rPr>
              <a:t>Convention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ransition Words/Phrases Grammar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pell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Mechanics/ Punctuation     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27T07:16:42Z</dcterms:created>
  <dc:creator>Randolph County Schools</dc:creator>
  <dc:description/>
  <dc:language>en-US</dc:language>
  <cp:lastModifiedBy>Randolph County Schools</cp:lastModifiedBy>
  <dcterms:modified xsi:type="dcterms:W3CDTF">2006-02-01T22:09:58Z</dcterms:modified>
  <cp:revision>10</cp:revision>
  <dc:subject/>
  <dc:title>Using Children’s Literature to Teach Writing</dc:title>
</cp:coreProperties>
</file>